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5A4-1F1D-4DF1-8EDF-649B7557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60E-DE9A-468C-B1A2-B8C740A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692-B47B-46B8-B431-23EA7EEC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365-67A7-4ECD-908E-D5CDE234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58C-A80D-42EC-B322-8A427162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BCE-5C57-49C2-AE09-3AF041A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CF1-CC9A-481C-B4E7-20B88B67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0590-7E4C-4ECB-9A65-E8A42DEF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B8C-4750-47D4-BB93-D45666F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FDAE-F647-42CE-AE75-71834E6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B314-9824-4F8D-A7E1-3212E76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3F8-1143-44F2-A450-40489302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A5F8-F8A0-4B6C-B77E-F77729F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B38-3CBD-4D85-BA7B-1D4621B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DDE4-C3B2-4ED5-85B3-FABA9378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3B2C-3F48-4BCE-954E-64331D55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E4B-C8A9-4CD8-AE3B-5D0E2F9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FC6-9E64-404A-985B-63EAC805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F08-4E54-47C8-B257-B7B70C2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636-9D13-46AB-B34A-AFBE737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09F-5331-4CFE-B044-76C0648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84C-7B90-430F-800F-1AB4C42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E34-ADA5-4FAC-BB82-583FD376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6F4-71F8-4281-90BB-2A0FF16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31F-1465-42DF-A81A-61F870DFD20D}" type="slidenum">
              <a:rPr b="0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4A4-797C-49F5-9DBA-4B19AE7658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Geometry Terms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46440"/>
            <a:ext cx="91440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October 2007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gle – Angle - S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angles and a nonincluded side of one triangle are congruent to two angles and the corresponding nonincluded side of another triangle, the two triangles are congruent.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48000" y="2381400"/>
            <a:ext cx="381024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 Black"/>
              </a:rPr>
              <a:t>Right angle – Hypotenuse - Side</a:t>
            </a:r>
            <a:endParaRPr b="1" lang="en-US" sz="32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f two right triangles have a hypotenuse and a corresponding congruent leg then the triangles are congruent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29280" y="2463840"/>
            <a:ext cx="3848040" cy="231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Terms to remember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sosceles Triangl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Vertical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orresponding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ransversal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lternate Interior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upplementary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o-interior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685800"/>
            <a:ext cx="2467080" cy="1533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2467080" cy="15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2467080" cy="1533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IsoscelesTriangle"/>
          <p:cNvPicPr/>
          <p:nvPr/>
        </p:nvPicPr>
        <p:blipFill>
          <a:blip r:embed="rId5"/>
          <a:stretch/>
        </p:blipFill>
        <p:spPr>
          <a:xfrm>
            <a:off x="3581280" y="609480"/>
            <a:ext cx="1067040" cy="154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676520" y="2133720"/>
            <a:ext cx="1876320" cy="43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2133720"/>
            <a:ext cx="762120" cy="36648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0429920" cy="525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8348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88120" cy="1024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swer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1. a)SS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A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S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S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2892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oncentric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oncentric circles share the same cent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90908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733920"/>
            <a:ext cx="990720" cy="99036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505320"/>
            <a:ext cx="16002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8240" y="3019320"/>
            <a:ext cx="2590920" cy="2438640"/>
          </a:xfrm>
          <a:prstGeom prst="ellipse">
            <a:avLst/>
          </a:prstGeom>
          <a:noFill/>
          <a:ln w="38160">
            <a:solidFill>
              <a:srgbClr val="66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onvers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onverse means the "if" and "then" parts of a sentence are switched. For example, "If two numbers are both even, then their sum is even" is a true statement. The converse would be "If the sum of two numbers is even, then the numbers are even," which is not a true statemen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 Black"/>
              </a:rPr>
              <a:t>Write the converse of the statement.</a:t>
            </a:r>
            <a:endParaRPr b="1" lang="en-US" sz="32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f two chords on a circle are equidistant from the centre of the circle, then they are congruen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f two chords of a circle are congruent, then they are equidistant from the centre of the circl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f a statement and its converse are both true, then they can be written using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, which means “if and only if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r example:  the preceding example can be written a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wo chords on a circle are equidistant from the centre of a circ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they are the same length.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Or:  “Two chords of a circle are the same lengt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they are equidistant from the centre of a circle.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Properties of Chord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hords that are equidistant from the centre of a circle are equal in length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hords that are equal in length are equidistant from the centre of a circl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e perpendicular bisectors of two chords pass through the center of the circl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Proving triangles congruen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ide - Angle – Sid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sides and the included angle are congruent to two sides and the included angle of a second triangle, the two triangles are congruent. 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48000" y="26668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Side – Side - S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hree sides of one triangle are congruent to three sides of a second triangle, the two triangles are congruent.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248000" y="26668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gle – Angle - Angl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angles and one  side of one triangle are congruent to two angles and the included side of another triangle, the triangles are congruent.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38098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54:54Z</dcterms:created>
  <dc:creator>nbdoe</dc:creator>
  <dc:description/>
  <cp:keywords/>
  <dc:language>en-US</dc:language>
  <cp:lastModifiedBy>nbdoe</cp:lastModifiedBy>
  <dcterms:modified xsi:type="dcterms:W3CDTF">2007-10-05T10:46:22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